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64032"/>
        <c:axId val="46723971"/>
      </c:barChart>
      <c:catAx>
        <c:axId val="75964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23971"/>
        <c:crosses val="autoZero"/>
        <c:auto val="1"/>
        <c:lblAlgn val="ctr"/>
        <c:lblOffset val="100"/>
        <c:noMultiLvlLbl val="0"/>
      </c:catAx>
      <c:valAx>
        <c:axId val="467239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64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2F59-5293-4CEC-B622-BE34A536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567-FFBF-4496-96B9-1941818D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11C-2F87-4BA5-9B7A-0CE02D21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0D00-89DE-4423-92F7-7292E716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D0E-E3E9-4703-B84C-D4C93268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317-E211-4CC1-99F1-47785781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0B4-B910-4E89-9E6D-B6D0F558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B06-E547-4971-B3BF-2DF848B6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692-06B2-4882-81AD-760B9706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BAA-F474-44AA-9ADF-9B59A0EC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AF2-2BEC-4AE0-8352-0A7CAD30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F62-6571-4F06-8D04-BA037F5D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21DAF-777E-4C71-AE27-2619C2B1A6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