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757988"/>
        <c:axId val="91171523"/>
      </c:barChart>
      <c:catAx>
        <c:axId val="307579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71523"/>
        <c:crosses val="autoZero"/>
        <c:auto val="1"/>
        <c:lblAlgn val="ctr"/>
        <c:lblOffset val="100"/>
        <c:noMultiLvlLbl val="0"/>
      </c:catAx>
      <c:valAx>
        <c:axId val="91171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579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5EC-D5A1-4702-B4F4-A0D7685A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2624-5CD1-41B2-934A-608B9D47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7A8-918C-478E-8D5A-0C728EA7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CD8-87EF-4FC0-BA5A-8A5C3590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09B-C03E-4880-985A-C6B92208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0A2-BCE6-4F97-A03D-22694A08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6E95-8569-4149-B7EB-3666CD04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D3C-F146-40C9-8EC5-7EEE0CD7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DE9-6502-4AAA-9987-2F116829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6AF8-E935-4F28-82D7-024A83A3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631C-2E81-4198-B569-9C1CB75A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557B-560B-461B-8008-4F7719BA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B1EA7-9A65-4D61-9F81-2AF4833C59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